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41B-C89C-4D3A-B861-63C63AEB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183-81BC-4010-9C89-FE66A0BE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69A-5358-4562-B02B-4066EF3C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0EB-6FF4-4082-94EE-606D7E28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A9C-8A39-4F5F-A8CC-B780166F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B04-0202-4921-826C-5DE080EA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F14-0F12-474C-949A-9E503208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CB1-E737-4DA6-AD7A-D31A2200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01A-464A-4F48-946E-8B311161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F48-FDCE-415D-8371-961FFC4C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A47-48E1-44C0-8DA6-B2E124A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10B-45D7-4AF6-AB4C-ACEF7DC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D02B-E2F1-46B6-B389-3927EE3A0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1840" y="399960"/>
            <a:ext cx="5080320" cy="57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3200400" y="971640"/>
            <a:ext cx="1371600" cy="78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971640"/>
            <a:ext cx="3505320" cy="78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15200" y="1828800"/>
            <a:ext cx="152388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43520" y="182880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11400" y="1828800"/>
            <a:ext cx="271152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35440" y="18288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890280" y="2158920"/>
            <a:ext cx="1220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111040" y="217656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2920" y="2158920"/>
            <a:ext cx="1084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03600" y="2176560"/>
            <a:ext cx="1084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2590920"/>
            <a:ext cx="1220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32080" y="2590920"/>
            <a:ext cx="1220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81480" y="2590920"/>
            <a:ext cx="1220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7240" y="2590920"/>
            <a:ext cx="1220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24280" y="2590920"/>
            <a:ext cx="1220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67160" y="21765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320" y="2819520"/>
            <a:ext cx="1066680" cy="1828800"/>
            <a:chOff x="76320" y="2819520"/>
            <a:chExt cx="1066680" cy="1828800"/>
          </a:xfrm>
        </p:grpSpPr>
        <p:sp>
          <p:nvSpPr>
            <p:cNvPr id="59" name=""/>
            <p:cNvSpPr/>
            <p:nvPr/>
          </p:nvSpPr>
          <p:spPr>
            <a:xfrm>
              <a:off x="76320" y="28195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20" y="4648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320" y="4267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320" y="3886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320" y="3505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32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464832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8620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350532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920" y="312408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26708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434960" y="2819520"/>
            <a:ext cx="1066680" cy="1828800"/>
            <a:chOff x="1434960" y="2819520"/>
            <a:chExt cx="1066680" cy="1828800"/>
          </a:xfrm>
        </p:grpSpPr>
        <p:sp>
          <p:nvSpPr>
            <p:cNvPr id="71" name=""/>
            <p:cNvSpPr/>
            <p:nvPr/>
          </p:nvSpPr>
          <p:spPr>
            <a:xfrm>
              <a:off x="1434960" y="28195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34960" y="4648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34960" y="4267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34960" y="3886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34960" y="3505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3496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63560" y="464832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63560" y="388620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63560" y="350532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63560" y="312408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63560" y="426708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925720" y="2819520"/>
            <a:ext cx="1066680" cy="1828800"/>
            <a:chOff x="2925720" y="2819520"/>
            <a:chExt cx="1066680" cy="1828800"/>
          </a:xfrm>
        </p:grpSpPr>
        <p:sp>
          <p:nvSpPr>
            <p:cNvPr id="83" name=""/>
            <p:cNvSpPr/>
            <p:nvPr/>
          </p:nvSpPr>
          <p:spPr>
            <a:xfrm>
              <a:off x="2925720" y="28195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5720" y="4648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5720" y="4267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5720" y="3886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25720" y="3505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2572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54320" y="464832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54320" y="388620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54320" y="350532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54320" y="312408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54320" y="426708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81480" y="2819520"/>
            <a:ext cx="1066680" cy="1828800"/>
            <a:chOff x="4281480" y="2819520"/>
            <a:chExt cx="1066680" cy="1828800"/>
          </a:xfrm>
        </p:grpSpPr>
        <p:sp>
          <p:nvSpPr>
            <p:cNvPr id="95" name=""/>
            <p:cNvSpPr/>
            <p:nvPr/>
          </p:nvSpPr>
          <p:spPr>
            <a:xfrm>
              <a:off x="4281480" y="28195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81480" y="4648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81480" y="4267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81480" y="3886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81480" y="3505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148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0080" y="464832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10080" y="388620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10080" y="350532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10080" y="312408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10080" y="426708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638680" y="2819520"/>
            <a:ext cx="1066680" cy="1828800"/>
            <a:chOff x="5638680" y="2819520"/>
            <a:chExt cx="1066680" cy="1828800"/>
          </a:xfrm>
        </p:grpSpPr>
        <p:sp>
          <p:nvSpPr>
            <p:cNvPr id="107" name=""/>
            <p:cNvSpPr/>
            <p:nvPr/>
          </p:nvSpPr>
          <p:spPr>
            <a:xfrm>
              <a:off x="5638680" y="28195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4648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38680" y="4267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38680" y="3886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38680" y="3505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3868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464832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7280" y="388620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350532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7280" y="312408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67280" y="4267080"/>
              <a:ext cx="838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31520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3581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3962520"/>
            <a:ext cx="1295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3200400"/>
            <a:ext cx="1295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2819520"/>
            <a:ext cx="1295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438280"/>
            <a:ext cx="1295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581280"/>
            <a:ext cx="1295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80880" y="609480"/>
            <a:ext cx="8305560" cy="4570920"/>
            <a:chOff x="380880" y="609480"/>
            <a:chExt cx="8305560" cy="4570920"/>
          </a:xfrm>
        </p:grpSpPr>
        <p:sp>
          <p:nvSpPr>
            <p:cNvPr id="130" name=""/>
            <p:cNvSpPr/>
            <p:nvPr/>
          </p:nvSpPr>
          <p:spPr>
            <a:xfrm>
              <a:off x="2601000" y="609480"/>
              <a:ext cx="5768280" cy="749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927600" y="1359000"/>
              <a:ext cx="1557000" cy="10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85320" y="1359000"/>
              <a:ext cx="2335680" cy="10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1360" y="2482920"/>
              <a:ext cx="3078720" cy="44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6640" y="2482920"/>
              <a:ext cx="110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S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05360" y="2916000"/>
              <a:ext cx="138600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691000" y="2939040"/>
              <a:ext cx="1384200" cy="49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5520" y="2939040"/>
              <a:ext cx="1230840" cy="49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" y="3482640"/>
              <a:ext cx="1386000" cy="29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20240" y="3482640"/>
              <a:ext cx="1386000" cy="29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55200" y="3482640"/>
              <a:ext cx="1386000" cy="29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14400" y="3482640"/>
              <a:ext cx="1386000" cy="29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30720" y="2939040"/>
              <a:ext cx="0" cy="51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80880" y="3782160"/>
              <a:ext cx="1210320" cy="1398240"/>
              <a:chOff x="380880" y="3782160"/>
              <a:chExt cx="1210320" cy="1398240"/>
            </a:xfrm>
          </p:grpSpPr>
          <p:sp>
            <p:nvSpPr>
              <p:cNvPr id="144" name=""/>
              <p:cNvSpPr/>
              <p:nvPr/>
            </p:nvSpPr>
            <p:spPr>
              <a:xfrm>
                <a:off x="380880" y="3782160"/>
                <a:ext cx="0" cy="139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0880" y="5180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0880" y="468108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0880" y="4181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40080" y="5180400"/>
                <a:ext cx="951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0080" y="4681080"/>
                <a:ext cx="951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0080" y="4181400"/>
                <a:ext cx="951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923480" y="3782160"/>
              <a:ext cx="1210680" cy="898920"/>
              <a:chOff x="1923480" y="3782160"/>
              <a:chExt cx="1210680" cy="898920"/>
            </a:xfrm>
          </p:grpSpPr>
          <p:sp>
            <p:nvSpPr>
              <p:cNvPr id="152" name=""/>
              <p:cNvSpPr/>
              <p:nvPr/>
            </p:nvSpPr>
            <p:spPr>
              <a:xfrm>
                <a:off x="1923480" y="3782160"/>
                <a:ext cx="0" cy="8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23480" y="4681080"/>
                <a:ext cx="17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23480" y="4181400"/>
                <a:ext cx="17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2680" y="4681080"/>
                <a:ext cx="9514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182680" y="4181400"/>
                <a:ext cx="9514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615840" y="3782160"/>
              <a:ext cx="1210320" cy="1398240"/>
              <a:chOff x="3615840" y="3782160"/>
              <a:chExt cx="1210320" cy="1398240"/>
            </a:xfrm>
          </p:grpSpPr>
          <p:sp>
            <p:nvSpPr>
              <p:cNvPr id="158" name=""/>
              <p:cNvSpPr/>
              <p:nvPr/>
            </p:nvSpPr>
            <p:spPr>
              <a:xfrm>
                <a:off x="3615840" y="3782160"/>
                <a:ext cx="0" cy="139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15840" y="5180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615840" y="468108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615840" y="4181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75040" y="5180400"/>
                <a:ext cx="951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75040" y="4681080"/>
                <a:ext cx="951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75040" y="4181400"/>
                <a:ext cx="951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5155200" y="3782160"/>
              <a:ext cx="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55200" y="4681800"/>
              <a:ext cx="17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55200" y="4181760"/>
              <a:ext cx="17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4760" y="4681800"/>
              <a:ext cx="951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4760" y="4181760"/>
              <a:ext cx="951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55920" y="2482920"/>
              <a:ext cx="1730520" cy="44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28880" y="2482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5920" y="2882880"/>
              <a:ext cx="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55920" y="378216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55920" y="32824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15480" y="3782160"/>
              <a:ext cx="1470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15480" y="3282480"/>
              <a:ext cx="1470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49:33Z</dcterms:created>
  <dc:creator>A.Petithan</dc:creator>
  <dc:description/>
  <dc:language>en-US</dc:language>
  <cp:lastModifiedBy>A.Petithan</cp:lastModifiedBy>
  <cp:lastPrinted>2001-09-28T16:33:40Z</cp:lastPrinted>
  <dcterms:modified xsi:type="dcterms:W3CDTF">2003-03-12T14:57:12Z</dcterms:modified>
  <cp:revision>4</cp:revision>
  <dc:subject/>
  <dc:title>Aucun titre de diapositive</dc:title>
</cp:coreProperties>
</file>