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D8BC-A642-48C7-8E77-B878D933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1E8A-3C88-4E56-BA20-E809D28D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4669-27EA-44C6-A781-DC9F2044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44F6-FFDD-4277-B5F5-159BEA47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D68-C553-4A12-8B6D-39D1E008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F083-6663-4045-AFA6-BCE27C92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3022-B56A-4E11-874D-4851C43B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8EBA-7C53-439A-AB0F-A0499DF2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E943-7907-4CCF-9E93-09B86B1D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AE47-3495-4104-B000-8A35476C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0719-5CEC-44F1-A0B3-40503712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99CF-2424-49CE-9D31-0A9FE60A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8732-7567-4DA2-A0BB-D4D190F5D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59800">
            <a:off x="179280" y="404280"/>
            <a:ext cx="4418280" cy="3189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226200">
            <a:off x="4787640" y="476280"/>
            <a:ext cx="4211640" cy="304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rot="192000">
            <a:off x="320400" y="3482640"/>
            <a:ext cx="4392360" cy="3170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 rot="256800">
            <a:off x="4788000" y="3500280"/>
            <a:ext cx="4356000" cy="3144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00000" y="1125360"/>
            <a:ext cx="27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mandine"/>
              </a:rPr>
              <a:t>Orthographe et étude de 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4581360"/>
            <a:ext cx="26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mandine"/>
              </a:rPr>
              <a:t>Gramm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1557360"/>
            <a:ext cx="27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mandine"/>
              </a:rPr>
              <a:t>Conjuga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19640" y="450864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mandine"/>
              </a:rPr>
              <a:t>Vocabul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17:12:52Z</dcterms:created>
  <dc:creator>XP</dc:creator>
  <dc:description/>
  <dc:language>en-US</dc:language>
  <cp:lastModifiedBy>XP</cp:lastModifiedBy>
  <dcterms:modified xsi:type="dcterms:W3CDTF">2008-08-12T17:13:30Z</dcterms:modified>
  <cp:revision>1</cp:revision>
  <dc:subject/>
  <dc:title>Diapositive 1</dc:title>
</cp:coreProperties>
</file>