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C7A8-462E-44EB-8A8B-342CD00F8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BA96-349D-48CA-9097-2ECD69B7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9AB6-8BFA-4894-9547-68DD0CCEA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F6CC-19DE-4BAE-9481-3F1DA179C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A28D-9FFF-4A2F-9783-70D0A95D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3A5E-B0BC-49A6-86C2-4A7121AB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8FA8-D674-4596-B43A-FD1A287A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D80E-D1C9-4149-82C4-9FA305B4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1FD3-62D1-4191-A5CB-2F7D0EAD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95F5-4EA6-4867-87D3-882C5CF0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2950-86D2-4549-A586-34C87B4E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8DAD-A82D-43BE-B913-F3C81ADF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EF2E-F88A-45FC-A1B8-06130FBE8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S VISU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577440" cy="6913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16000" y="2637000"/>
            <a:ext cx="66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mandine"/>
              </a:rPr>
              <a:t>Françai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2T16:37:26Z</dcterms:created>
  <dc:creator>XP</dc:creator>
  <dc:description/>
  <dc:language>en-US</dc:language>
  <cp:lastModifiedBy>XP</cp:lastModifiedBy>
  <dcterms:modified xsi:type="dcterms:W3CDTF">2008-08-12T16:38:28Z</dcterms:modified>
  <cp:revision>1</cp:revision>
  <dc:subject/>
  <dc:title>ARTS VISUELS</dc:title>
</cp:coreProperties>
</file>