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EE0-57B8-4930-AD0B-6238AC78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941-9D8A-4E07-B244-0F72321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0F7-E4B0-4E91-A039-33928704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D22-8723-458D-9B08-4EFA8536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1CF-CCE4-4FE9-8C08-25667D06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FA0-0261-4150-AFB5-5830CB7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F06-7B12-48F2-B618-737953A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FB2-29FD-4ACE-B788-75156B8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4F0-FA50-45BA-A0B2-68973491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38C-FD21-415F-93A5-6F9C5DD4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A74-07AB-47BA-899B-C3442EF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6D2-0738-4EDD-8E57-48E318F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ADFA-088F-47BC-9C2A-7C3E56C5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11161800" cy="699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1700280"/>
            <a:ext cx="590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mandine"/>
              </a:rPr>
              <a:t>Découverte du mon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49:27Z</dcterms:created>
  <dc:creator>XP</dc:creator>
  <dc:description/>
  <dc:language>en-US</dc:language>
  <cp:lastModifiedBy>XP</cp:lastModifiedBy>
  <dcterms:modified xsi:type="dcterms:W3CDTF">2008-08-12T16:50:59Z</dcterms:modified>
  <cp:revision>1</cp:revision>
  <dc:subject/>
  <dc:title>Diapositive 1</dc:title>
</cp:coreProperties>
</file>