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290-417C-4FE3-8990-79F0C6B5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2A5-DD7F-41C6-9831-053EE82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E07-4DEE-46CD-B1EE-829C3E15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B73-88BF-4785-9D5F-B5185D22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BED-9E43-47E8-9D50-FC36902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6F1-E6A2-4D3F-8198-32E9E9E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78E-A472-46E1-B335-190E854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28C-663A-4718-A9A1-D3EDC5E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897-D91F-4E26-BE55-C59607DD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ECD-4F2B-4762-BEE3-46468B2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44C-C7CE-4A8F-9D36-A54F894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E2B-B9FD-42DD-ABD8-E9A7E21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2669-EC54-4B91-918E-CC5BE386A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92160"/>
            <a:ext cx="10080720" cy="704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92360" y="213372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mandine"/>
              </a:rPr>
              <a:t>Arts visu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40:29Z</dcterms:created>
  <dc:creator>XP</dc:creator>
  <dc:description/>
  <dc:language>en-US</dc:language>
  <cp:lastModifiedBy>XP</cp:lastModifiedBy>
  <dcterms:modified xsi:type="dcterms:W3CDTF">2008-08-12T16:42:25Z</dcterms:modified>
  <cp:revision>1</cp:revision>
  <dc:subject/>
  <dc:title>Diapositive 1</dc:title>
</cp:coreProperties>
</file>