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DDB60-1110-44F3-B80F-1288AD25B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2585B-0099-4667-BF2D-4504E4EFA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B34CD-D5FF-4581-BFDB-40B32833C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76FE6-9B96-4EF7-AAC3-85A1EBDFF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6225F-A93E-4946-9D6A-ACC418C2D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65932-711C-4FC6-83C7-9002D6459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ECD4F-3383-4231-9B1F-B2D422AD7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E3814-DCCB-4C6D-B61D-352496AB7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C8362-E63C-4307-9A99-CDF468CBC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D258C-48E3-47FD-AF03-D350157C2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C137A-606B-49EA-9741-30075C18C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84AF1-F3E2-43A8-8B03-FF6997CD5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BF16C-209A-4D80-BC96-F673333A8C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-146160"/>
            <a:ext cx="9252000" cy="72342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187280" y="2708280"/>
            <a:ext cx="69138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Amandine"/>
              </a:rPr>
              <a:t>Mathématiques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2T16:43:51Z</dcterms:created>
  <dc:creator>XP</dc:creator>
  <dc:description/>
  <dc:language>en-US</dc:language>
  <cp:lastModifiedBy>XP</cp:lastModifiedBy>
  <dcterms:modified xsi:type="dcterms:W3CDTF">2008-08-12T16:44:14Z</dcterms:modified>
  <cp:revision>1</cp:revision>
  <dc:subject/>
  <dc:title>Diapositive 1</dc:title>
</cp:coreProperties>
</file>