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FC-9F45-4232-8487-CAA063D2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3F3-3F25-43A1-9D3D-09C8CCD1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A0D-0991-492A-918A-E6326E3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CBC-D8AC-4AB6-82E4-67DB8EB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2B4-5672-41AD-B976-DBC6DBF0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7DD-DD9A-4479-86AD-7FCD645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614-7D02-40FB-90BB-F987533B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3CE-2BCC-4624-A5DC-07BFCB29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8B4-AB4B-4CD9-A0D6-B3FC2408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B6F-0898-4A62-96B4-AE8CA53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198-1B0F-49B6-B2FA-BFC236C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A7B-3FEB-49F6-87A2-F9D8809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D88-6C85-4B66-B18A-809B8072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922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959800">
            <a:off x="2053800" y="2491920"/>
            <a:ext cx="6050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1124800">
            <a:off x="1835280" y="234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56800">
            <a:off x="107640" y="-674280"/>
            <a:ext cx="9163080" cy="812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1341360"/>
            <a:ext cx="6119640" cy="393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mandine"/>
              </a:rPr>
              <a:t>Littératur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7:01:33Z</dcterms:created>
  <dc:creator>XP</dc:creator>
  <dc:description/>
  <dc:language>en-US</dc:language>
  <cp:lastModifiedBy>XP</cp:lastModifiedBy>
  <dcterms:modified xsi:type="dcterms:W3CDTF">2008-08-12T17:02:03Z</dcterms:modified>
  <cp:revision>1</cp:revision>
  <dc:subject/>
  <dc:title>Diapositive 1</dc:title>
</cp:coreProperties>
</file>